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FFC-BB8B-48E1-A275-A98FFB8C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04E-B715-4EBA-9792-E40C7B9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045-1FD1-409B-9D58-D3A8B656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F75-6E7A-4EE1-B795-48358D3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6D3-C787-43F4-AD87-30268CE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EC4-76AF-4DDF-A58D-2E082B87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7CE-7F78-4C1E-8A6B-C4C75B6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0F0-6933-42F2-9A55-15101BA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CF8-D109-4ACE-8ECC-ED3A7289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44F-6462-4C63-A9E0-20A744F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DDD-09C7-41BE-8116-F4B82C0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C6F-2A75-4470-A661-CBAF0F34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FDB-715D-4C02-84EA-15787DD0E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crel.org/sdrs/areas/issues/methods/technlgy/wisdom/reynolds2.htm" TargetMode="External"/><Relationship Id="rId2" Type="http://schemas.openxmlformats.org/officeDocument/2006/relationships/hyperlink" Target="http://www.ncrel.org/sdrs/areas/issues/methods/technlgy/wisdom/marrello1.htm" TargetMode="External"/><Relationship Id="rId3" Type="http://schemas.openxmlformats.org/officeDocument/2006/relationships/hyperlink" Target="http://www.ncrel.org/sdrs/areas/issues/methods/technlgy/wisdom/reynolds5.htm" TargetMode="External"/><Relationship Id="rId4" Type="http://schemas.openxmlformats.org/officeDocument/2006/relationships/hyperlink" Target="http://www.ncrel.org/sdrs/areas/issues/methods/technlgy/wisdom/rauch3/rauch3.htm" TargetMode="External"/><Relationship Id="rId5" Type="http://schemas.openxmlformats.org/officeDocument/2006/relationships/hyperlink" Target="http://www.ncrel.org/sdrs/areas/issues/methods/technlgy/wisdom/reed6.htm" TargetMode="External"/><Relationship Id="rId6" Type="http://schemas.openxmlformats.org/officeDocument/2006/relationships/hyperlink" Target="http://www.ncrel.org/sdrs/areas/issues/methods/technlgy/wisdom/clair1.htm" TargetMode="External"/><Relationship Id="rId7" Type="http://schemas.openxmlformats.org/officeDocument/2006/relationships/hyperlink" Target="http://www.ncrel.org/sdrs/areas/issues/methods/technlgy/wisdom/williams1.htm" TargetMode="External"/><Relationship Id="rId8" Type="http://schemas.openxmlformats.org/officeDocument/2006/relationships/hyperlink" Target="http://www.ncrel.org/sdrs/areas/issues/methods/technlgy/wisdom/reynolds6.htm" TargetMode="External"/><Relationship Id="rId9" Type="http://schemas.openxmlformats.org/officeDocument/2006/relationships/hyperlink" Target="http://www.ncrel.org/sdrs/areas/issues/methods/technlgy/wisdom/williams2.htm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are decisions made as to what kind of technology a student needs? Who is involved in these decisions?</a:t>
            </a: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crel.org/sdrs/areas/issues/methods/technlgy/wisdom/reynolds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crel.org/sdrs/areas/issues/methods/technlgy/wisdom/marrello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is the effectiveness of evaluation processes determined regarding technology integration? What are those evaluation processes?</a:t>
            </a: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crel.org/sdrs/areas/issues/methods/technlgy/wisdom/reynold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crel.org/sdrs/areas/issues/methods/technlgy/wisdom/rauch3/rauch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Understanding that assistive technology is for students with disabilities, how do you feel about assistive technologies being applied for all students and how does assistive technology address the achievement gap?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ncrel.org/sdrs/areas/issues/methods/technlgy/wisdom/reed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For what specific purposes do you use assistive technology with special needs students in your classroom to support their learning and to motivate them?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crel.org/sdrs/areas/issues/methods/technlgy/wisdom/clair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ncrel.org/sdrs/areas/issues/methods/technlgy/wisdom/william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do you ensure effective use of assistive technology? Is it inclusive of all students? </a:t>
            </a:r>
            <a:br>
              <a:rPr sz="1400"/>
            </a:b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(Please note that assistive technology is referred to as instructional technology when used with non-special-education students)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ncrel.org/sdrs/areas/issues/methods/technlgy/wisdom/reynolds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ncrel.org/sdrs/areas/issues/methods/technlgy/wisdom/williams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crel.org/sdrs/areas/issues/methods/technlgy/wisdom/garcia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do you encourage your students to challenge themselves to become independent learners and productive citizens, and use technology as a tool for learning?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crel.org/sdrs/areas/issues/methods/technlgy/wisdom/driessen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crel.org/sdrs/areas/issues/methods/technlgy/wisdom/reynolds1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5:29:24Z</dcterms:created>
  <dc:creator>Xiuwen Wu</dc:creator>
  <dc:description/>
  <dc:language>en-US</dc:language>
  <cp:lastModifiedBy>Xiuwen Wu</cp:lastModifiedBy>
  <dcterms:modified xsi:type="dcterms:W3CDTF">2008-01-31T05:36:45Z</dcterms:modified>
  <cp:revision>4</cp:revision>
  <dc:subject/>
  <dc:title>Slide 1</dc:title>
</cp:coreProperties>
</file>